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173-60F2-453A-B7F3-76A9C09C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895-D95D-4CEA-93B1-326AA154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D45-FA39-4580-A4F3-E2E56EBB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A9EA-07B2-479D-BC2B-51B34470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C87-6284-4BCC-AF5E-BE7CD5CE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C70-2B0F-409D-AC19-F8315FCD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9479-AFDB-4B6C-8740-25FDAD6B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94A-9134-4248-9723-233D1232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0F7-65DA-4D97-8599-A87212EF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016-3B41-44FA-ADAB-02D6DC7E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FE8-9994-4532-A4CC-753D7006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E6A-56F6-49FD-8754-304F6FB3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6BC4-06B5-498F-AAF9-EF2AEADF5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in’s rise to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553080" cy="2590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ere the main contenders for power in 192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Stalin deal with them and ultimately win total control of the pa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/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brief notes on the key events during each year from the ‘boxing’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just include the key names, dates and events relating to Stalin’s rise to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show clearly how her first turns on Trotsky, then the left and then finally the right of the par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in: most evil men in History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for 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collectivis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ere the Kula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Gul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‘Great Terror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5 of these qualities do you think it is most important for the future leader of the Communist party to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38188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in’s last testament was very critical of Sta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nted it read out at the 12th Party Congress in April 19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wife, Krupskaya kept it secret hoping Lenin would recover and believing it could split the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Lenin’s death she turned it over the Communist Party Central Committee (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ament wasn’t published in full and read out to the party conference as Lenin intended…. So it didn’t have the intended eff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contenders! - In the Right corn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895400"/>
            <a:ext cx="4784760" cy="39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0" y="1895400"/>
            <a:ext cx="4784760" cy="49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Left Corn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690560"/>
            <a:ext cx="5639040" cy="343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52480" y="1690560"/>
            <a:ext cx="5639040" cy="51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in the middl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1752480"/>
            <a:ext cx="2514600" cy="1371600"/>
          </a:xfrm>
          <a:prstGeom prst="wedgeEllipseCallout">
            <a:avLst>
              <a:gd name="adj1" fmla="val -84532"/>
              <a:gd name="adj2" fmla="val 36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the lineu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727200" y="2181240"/>
            <a:ext cx="8191800" cy="38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457200" y="1981080"/>
            <a:ext cx="10515600" cy="40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a closer look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 the main contenders amongst the group: take into account the length of the description and how quickly each person is likely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notes in your books on the strengths and weaknesses of your individual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as a group: who is best placed to w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s o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11-20T08:03:24Z</dcterms:modified>
  <cp:revision>5</cp:revision>
  <dc:subject/>
  <dc:title>Stalin’s rise to Power</dc:title>
</cp:coreProperties>
</file>